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8B90-7BF4-4E52-AE52-A2C710C9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7561-52AC-4AA9-AC1A-7C362BA3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D9AF-B3B1-4CD9-BA7B-93DE3D45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F961-A7CA-4ADF-ADF1-E00AC123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5E21-FDC8-4F4D-ACC4-58C765E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DFDF-2218-431E-848D-AE59D604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BDB-A6DB-41F2-AF31-9F78A2F8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8C05-ACD1-4A03-8A2E-C6B4759E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F29C-2193-4463-AC2E-54ABFF8A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7976-56E6-4EEE-A1FB-E1E1B85D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ADCC-E584-4AF0-AF0B-1CC67AEE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AF3B-C0FB-44DC-8B23-CCEB3BDA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16B8-E378-405C-8F9E-6AFEA9F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B76A-06EC-4388-9362-35784D72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2EE6-3673-4273-B305-190864E2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3B93-CF9E-4EA6-B710-D49CFEF4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04AB-9ADF-4ACC-806E-7272EB11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501D-C452-42DC-9608-6C55B667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C331-40A4-40A2-B74C-58DBFA7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0D67-E775-4D16-9BB8-1619E37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ED99-6CEA-4475-BAFE-A1036639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CD74-9340-40B3-8C69-50824350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3352-1994-443C-A7BD-D615C51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208D-580E-449E-910F-08D188D0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5DFA-6358-4FD2-90B7-2AE2D13FB0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AA09-FB77-441B-874E-918CEC2C6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ll: Cause and Effec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wo things when one thing is a stimulus that makes something else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o-tab Foldable™ using notebook paper or photocopy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mburger f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t dog fold (leave holes showing for notebook stor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-tab Foldable™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– Effect –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use – Immediate Effect --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629400" y="4807080"/>
            <a:ext cx="218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&amp; Eff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old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not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4066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of four research-based models for teaching vocabulary (wide reading, explicit teaching of specific words, teaching of word-learning strategies, and development of word consciousness) can be well supported by interactive graphic organizers.  Marzano’s vision for direct vocabulary instruction aims for a top-level linguistic understanding of words accompanied by visual representation of terms, terms that students encounter in their academic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umann, F.F. and Kame’enui, E.J. (2004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cabulary Instruction: Research to Pract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NY: The Guilford 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663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tab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-tab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notebook paper or photocopy pa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dog fold/leave holes showing for notebook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otebook rings to collect multiple vocabulary Fold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Fold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within larger Fold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220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e Fold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8.5” x 11” photocopy paper and note cards: “Know”/ “Need to Kno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pocket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11” x 17” paper and note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6668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old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strip Fold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using half sheets of noteboo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638680" y="60948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4:08:14Z</dcterms:created>
  <dc:creator>wheatond</dc:creator>
  <dc:description/>
  <dc:language>en-US</dc:language>
  <cp:lastModifiedBy>wheatond</cp:lastModifiedBy>
  <dcterms:modified xsi:type="dcterms:W3CDTF">2007-10-02T14:11:13Z</dcterms:modified>
  <cp:revision>1</cp:revision>
  <dc:subject/>
  <dc:title>Skill: Cause and Effect The relationship between two things when one thing is a stimulus that makes something else happen.</dc:title>
</cp:coreProperties>
</file>